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59444"/>
        <c:axId val="6747582"/>
      </c:barChart>
      <c:catAx>
        <c:axId val="49259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582"/>
        <c:crosses val="autoZero"/>
        <c:auto val="1"/>
        <c:lblAlgn val="ctr"/>
        <c:lblOffset val="100"/>
        <c:noMultiLvlLbl val="0"/>
      </c:catAx>
      <c:valAx>
        <c:axId val="6747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59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D07-3F09-4406-A61A-FFD96FC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520-6685-4575-8F73-62EF179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078-3B8E-4527-9DB8-ED9E0EA7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8F7-01A5-4AB6-934E-4DC2B201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E51-E07C-44FA-9395-2B4F24A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E49-FE52-4CE9-BF4C-5C3DC35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A76-9515-459B-802B-D91EFE3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160-D947-4B35-8780-838E9CDA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DA0-AFE3-4860-8D1E-5AA83907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7FF-9BBB-4BC3-AF9D-8227605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C89-4CF9-4A67-BFF0-A308F95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635-5BC7-466D-8CAF-874D4F6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03A4-9B5A-45FA-A98A-034F071C5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