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1547"/>
        <c:axId val="69745444"/>
      </c:barChart>
      <c:catAx>
        <c:axId val="9831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5444"/>
        <c:crosses val="autoZero"/>
        <c:auto val="1"/>
        <c:lblAlgn val="ctr"/>
        <c:lblOffset val="100"/>
        <c:noMultiLvlLbl val="0"/>
      </c:catAx>
      <c:valAx>
        <c:axId val="69745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1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93E-420F-4B9C-B418-6491C797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463-1898-4826-A578-97A008B5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458-2B48-47CE-BDB5-427284D6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B56-1ED3-414E-9D23-4B8615C9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E55-E6AA-44F6-AFDF-5F49A5E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11E-B053-4308-8205-D347F8B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185-3D89-4404-BD2D-499642F3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97E-0A58-440C-81B5-67D6CAB9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14C-5886-4E99-80A6-DBFA248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DB9-14A2-4E8B-964A-567EC33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4D4-F8BC-47CD-87F4-33C5B2F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C06-D925-4C4F-9103-C0512214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24B90-60A5-405B-854E-A9C23B0CE9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