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45828"/>
        <c:axId val="54496689"/>
      </c:barChart>
      <c:catAx>
        <c:axId val="54545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96689"/>
        <c:crosses val="autoZero"/>
        <c:auto val="1"/>
        <c:lblAlgn val="ctr"/>
        <c:lblOffset val="100"/>
        <c:noMultiLvlLbl val="0"/>
      </c:catAx>
      <c:valAx>
        <c:axId val="54496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45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460-1F5E-448B-8523-E796A41B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7DE-556F-4EA9-855A-AB3AA699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1D0-0AAE-4E71-9842-CF3698AE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CEE-C57A-4FD3-993A-35A9B683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93C-8D9B-45C7-AED2-0BAC3039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FD9-954F-449A-905A-36DFF57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1E3-CB1E-40B3-9828-FC6BD23A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96F-EF8B-4985-8770-0A8E4195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E53-ABB6-4080-B436-5560DC37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350-2EFB-4CD0-BAF7-8D5619F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0DD-01C6-4CA8-B6F5-FB7B98B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CCD-998E-4F05-A7CF-F76E59E1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6CEA8-7D23-4892-9211-07057968FD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