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15260"/>
        <c:axId val="19688579"/>
      </c:barChart>
      <c:catAx>
        <c:axId val="13615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8579"/>
        <c:crosses val="autoZero"/>
        <c:auto val="1"/>
        <c:lblAlgn val="ctr"/>
        <c:lblOffset val="100"/>
        <c:noMultiLvlLbl val="0"/>
      </c:catAx>
      <c:valAx>
        <c:axId val="196885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15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415-006A-4954-9C7C-E1D47B18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C43-DFF1-4435-A82B-1BE6AA25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502-3AB6-4DCE-B87B-C0EFE035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BCB-BC7B-4B71-92FA-39F149C9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733B-8BC4-4EAF-B926-1441B65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4AC-7F00-40A8-BBA3-F7F17EC4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E0C-406D-4208-A1E4-D5272BDE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5F0-52A4-4C15-B205-465FBDBB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7FB-D7ED-41B9-A09C-3D1C7B5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F48-69C0-4325-9887-98D06030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334-51B6-4AC8-80FD-4150F90F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D8D-8607-4BDD-AF97-986C880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E1D0D-19F7-4F1E-84A9-1D2EACA457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