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11235"/>
        <c:axId val="47908881"/>
      </c:barChart>
      <c:catAx>
        <c:axId val="88111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08881"/>
        <c:crosses val="autoZero"/>
        <c:auto val="1"/>
        <c:lblAlgn val="ctr"/>
        <c:lblOffset val="100"/>
        <c:noMultiLvlLbl val="0"/>
      </c:catAx>
      <c:valAx>
        <c:axId val="47908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11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4D9-7E39-473F-A2B5-F93F7208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25B-89F4-42A2-A40D-D6390E8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E91-F813-4E1C-A928-13669F60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0C4-7DA6-4785-8F93-105A89C9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0D2-BB33-44C3-90B7-CDB6FA7F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5CD-17D8-41D2-A070-3B928119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0ED-DA78-49F0-B4F4-1EA055F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890-55D6-4AEE-B2A8-664C5760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68D-8FF8-4FDA-85BC-6B1E440D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0C9-200A-4337-8869-E298D7B3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12F-D22C-4180-AAA4-DEFBB7A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57E-C4FC-4BB6-8583-698261F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F36B8-532B-4277-8FF9-94C6DD6247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