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56661"/>
        <c:axId val="78492406"/>
      </c:barChart>
      <c:catAx>
        <c:axId val="58056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2406"/>
        <c:crosses val="autoZero"/>
        <c:auto val="1"/>
        <c:lblAlgn val="ctr"/>
        <c:lblOffset val="100"/>
        <c:noMultiLvlLbl val="0"/>
      </c:catAx>
      <c:valAx>
        <c:axId val="78492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6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DF9-7B23-4B45-AE31-2A3EB533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689-2FFC-4F65-B29E-F7835EE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7DF-5550-4781-8492-45678D5D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AE5-2B59-4851-975D-6432C85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E48-2D94-4F4F-BB40-B645025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BCF-0083-4DC5-9D5C-56746B01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BB7-63DF-4D91-AE61-2524716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9C8-355C-467A-92D4-8206BA2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3E1-9494-4C33-854E-624A8F3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94D-8DB1-4F0F-9889-0ACA802E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F62-FAAF-47FA-B776-6DA755B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A77-70B6-471E-8BCE-9466225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FB610-25C8-4877-AC06-1AB4EF780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