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438408"/>
        <c:axId val="69939278"/>
      </c:barChart>
      <c:catAx>
        <c:axId val="204384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39278"/>
        <c:crosses val="autoZero"/>
        <c:auto val="1"/>
        <c:lblAlgn val="ctr"/>
        <c:lblOffset val="100"/>
        <c:noMultiLvlLbl val="0"/>
      </c:catAx>
      <c:valAx>
        <c:axId val="699392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384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527B-6EA9-46BB-B7A0-38758727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7D91-7C73-4AB0-9CA1-907675B6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DCB1-CACD-4D1C-9656-F172B385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774D-E9F3-407F-874D-C708D917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EE75-CE6B-4C06-B796-A7951D55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02E7-AC61-446A-A31C-8B2C6570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99C7-507A-4A7E-A50C-7B474312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AE45-797A-453F-9E2F-3D128460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2586-30AC-4D07-8CAD-3F9555AB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E205-3E50-4C2F-A213-81E06A50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8BC6-4632-4557-9C83-9DDDA25C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3725-A3BA-4D65-9A57-507AFA91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74814-31C8-4924-90D2-4FB57BBCEB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