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61536"/>
        <c:axId val="97848454"/>
      </c:barChart>
      <c:catAx>
        <c:axId val="79861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48454"/>
        <c:crosses val="autoZero"/>
        <c:auto val="1"/>
        <c:lblAlgn val="ctr"/>
        <c:lblOffset val="100"/>
        <c:noMultiLvlLbl val="0"/>
      </c:catAx>
      <c:valAx>
        <c:axId val="97848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61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726-7603-4660-A7F7-4632A5B2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AE6-099C-4FD2-94C9-6FC0D75E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103-B974-4468-B84D-BA62C580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CD9-4068-4D3D-B624-49DEC09E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792-40D5-4700-A082-093D6EE8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B32-C815-400D-B810-9B6CCA30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0FD-3106-4C1C-A7B6-B582720E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B13-E3DA-4C18-8EDD-A7DA4547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4F8-983C-4875-85C0-1CC27909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78B-9334-4B3A-A25F-D0FE3601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A58-0D09-47DD-A9F2-A932D000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188-7113-479F-BB59-C603DA32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17FE6-1B7F-49AF-B0B9-F9DE3CA317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