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80385"/>
        <c:axId val="13757619"/>
      </c:barChart>
      <c:catAx>
        <c:axId val="36080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57619"/>
        <c:crosses val="autoZero"/>
        <c:auto val="1"/>
        <c:lblAlgn val="ctr"/>
        <c:lblOffset val="100"/>
        <c:noMultiLvlLbl val="0"/>
      </c:catAx>
      <c:valAx>
        <c:axId val="13757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0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440-0B85-45AA-AE0B-DD39EFC8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9CF-4E43-49BC-ACD1-BB29238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7C1-D03F-405B-AB80-4661C1EA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775-6E89-4DBD-AB80-C7C181A4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327-6D98-4FB5-8C99-27E46F21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750-2127-4ADD-9A3B-0EA9586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0E0-6B62-4D62-A98B-040260B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302-BD86-4BCB-9E5F-CCD6F0EF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791-3C66-421E-8B9A-9484411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653-4AF3-4803-9F67-6529589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153-DEA0-4C5C-A6B9-5E06E09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C6D-389D-4EB8-AFB1-D8F391D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52C61-DE3F-4572-A34D-F4173FAF66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