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24391"/>
        <c:axId val="88449435"/>
      </c:barChart>
      <c:catAx>
        <c:axId val="64424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49435"/>
        <c:crosses val="autoZero"/>
        <c:auto val="1"/>
        <c:lblAlgn val="ctr"/>
        <c:lblOffset val="100"/>
        <c:noMultiLvlLbl val="0"/>
      </c:catAx>
      <c:valAx>
        <c:axId val="88449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24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51F-9524-4BC0-B80B-1C5DFE9A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50A-A0E4-4A10-AA0E-F1F3668B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81F-D834-4094-9A0D-F0407A63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EC9-444E-4CF6-83D4-C845676D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96B-8113-468C-AB7F-7AE3C38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474-8644-4538-B68A-E0E4837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770-FA5A-481A-9316-8B0C94FD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D77-AB8D-4EAD-98A1-575CFC6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0FC-C880-45CE-BB1E-C6D4B99B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401-C8A9-435B-8848-20124A89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FA2-5902-4EB4-86BC-0545562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DF9-A8FF-448E-8FB0-15013D1A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C963A-3A5F-418C-A04F-F20C0E1C83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