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22946"/>
        <c:axId val="69246563"/>
      </c:barChart>
      <c:catAx>
        <c:axId val="51722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6563"/>
        <c:crosses val="autoZero"/>
        <c:auto val="1"/>
        <c:lblAlgn val="ctr"/>
        <c:lblOffset val="100"/>
        <c:noMultiLvlLbl val="0"/>
      </c:catAx>
      <c:valAx>
        <c:axId val="69246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2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E2D-E1D6-41D8-AF01-C56FE8C7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FB2-6ECA-4D84-952E-D8E0B98F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D23-46EB-4ED2-A851-0A62871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EF9-95DE-4514-A76F-1231D1CD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646-1D8A-4871-975B-FC78ECBA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DAE-9439-4088-8E07-A87186A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EEB-8370-4E53-ABC4-6747E9ED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DFF-4155-453A-AAA7-3012002B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60A-FB33-46B7-96C8-FAA01B19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EAE-9A70-4588-9BF3-631573A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B3D-46E6-4356-BC02-B32E04A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A04-DA4F-4E5E-95B1-99148F7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7426D-D94A-407E-A10A-0423D4AFE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