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50305"/>
        <c:axId val="80845271"/>
      </c:barChart>
      <c:catAx>
        <c:axId val="48050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45271"/>
        <c:crosses val="autoZero"/>
        <c:auto val="1"/>
        <c:lblAlgn val="ctr"/>
        <c:lblOffset val="100"/>
        <c:noMultiLvlLbl val="0"/>
      </c:catAx>
      <c:valAx>
        <c:axId val="80845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50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8E6-DF01-4BB2-BA7D-B5E1C4EA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640-2973-4CBC-9827-ADEB4EA8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7B8-BC7E-4138-8F6F-2D744964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3DB-AA51-4777-9865-B9C756D5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D62-A9A9-454A-9A22-3C587530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5F7-382D-42DB-82AE-23F6D431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FA7-F02F-4D49-883F-588D9259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3A5-7A58-4463-8A5A-485B7D1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FAA-0069-4189-8973-44B23FEA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E4C-AA66-494B-8241-EBFAFB76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14F-CF2B-49E8-89BC-6A8EA18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223-5254-4A8F-92B2-C601E1AF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382BE-43E8-4CEE-9532-CD66666120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