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763960"/>
        <c:axId val="96556516"/>
      </c:barChart>
      <c:catAx>
        <c:axId val="197639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56516"/>
        <c:crosses val="autoZero"/>
        <c:auto val="1"/>
        <c:lblAlgn val="ctr"/>
        <c:lblOffset val="100"/>
        <c:noMultiLvlLbl val="0"/>
      </c:catAx>
      <c:valAx>
        <c:axId val="965565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639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6EFF-7D47-425F-B306-E3B2CF8C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8D8E-82EE-4454-BC57-948D00AB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3A86-18DC-4B0D-9EF9-F52C15B1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F3E-5D9F-4518-947F-2C669AF4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4E0A-137B-4154-A947-86738B55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4CDC-B400-4C2B-8FD7-6899DC6E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64AE-B7A2-49FC-BB6D-7F3FC9CE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80C5-2177-4877-93BE-4814FC52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D205-8CE6-4AB9-98CC-0F2924DF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B25C-B48D-46B6-AB37-8CDE16C4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219D-B712-480E-BFB8-12AC17D1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10DB-72F6-43D2-B152-D39FFF72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2EE4D-2304-4D8C-AACA-D577C1AD92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