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801044"/>
        <c:axId val="85821177"/>
      </c:barChart>
      <c:catAx>
        <c:axId val="508010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21177"/>
        <c:crosses val="autoZero"/>
        <c:auto val="1"/>
        <c:lblAlgn val="ctr"/>
        <c:lblOffset val="100"/>
        <c:noMultiLvlLbl val="0"/>
      </c:catAx>
      <c:valAx>
        <c:axId val="858211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010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544-FD99-447E-BF83-5B914428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7376-856A-4717-9C49-44339F85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B6AC-022D-4BC9-855F-EFF003CE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BA04-34B4-4DE3-9EDF-0354B88F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B29A-CF30-42FC-BF2B-BF2AFD87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5072-914B-4ED0-89C9-58B782E6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15D-048E-4067-A48A-FDA16310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AED1-E9B5-4DBF-A4E8-6ACC7D3C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265A-2DD9-45A1-92DB-1B173EEE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610D-EFC6-4F82-B6AB-092E58AD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54FB-9EAE-475C-A682-000AAF3F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9C4F-9546-4508-B1F0-B7691E33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B1470-7D70-403F-92D0-E376C09020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