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46406"/>
        <c:axId val="4660125"/>
      </c:barChart>
      <c:catAx>
        <c:axId val="69946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0125"/>
        <c:crosses val="autoZero"/>
        <c:auto val="1"/>
        <c:lblAlgn val="ctr"/>
        <c:lblOffset val="100"/>
        <c:noMultiLvlLbl val="0"/>
      </c:catAx>
      <c:valAx>
        <c:axId val="4660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46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0E9-7071-457E-99B2-3DC1347E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A54-34D8-475D-8F3A-467AAFA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50A-6792-46BA-A0BE-58F280C2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3A7-BD09-4F40-AF4D-DDEF64B6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788-F24E-4A18-8D2C-BB9DF4E6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87F-0CD8-4D9A-B36C-507C7026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718-F97B-4E2D-83F5-DAE90EEA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D34-CE83-47DB-AD09-8BAE7F9F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26A-0CAE-445B-9075-0C2587BD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809-3462-4CA8-99E6-587ACA5F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29A-9B48-4170-9464-17C48CD0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56F-7314-4B99-98CB-BA84D73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0FE03-CC05-4CB1-8628-B6DEF62648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