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21693"/>
        <c:axId val="91006193"/>
      </c:barChart>
      <c:catAx>
        <c:axId val="91721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06193"/>
        <c:crosses val="autoZero"/>
        <c:auto val="1"/>
        <c:lblAlgn val="ctr"/>
        <c:lblOffset val="100"/>
        <c:noMultiLvlLbl val="0"/>
      </c:catAx>
      <c:valAx>
        <c:axId val="91006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21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DD7-36F2-4AE9-B10C-A3D2B58F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E2E-629B-413A-972B-CF3DD17A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8D4-FD6C-4D36-8A0E-7DBE2C05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EB4-BE7E-462A-AB0B-0A5E981D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89A-BAB0-49A2-B261-686B83F6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DCAC-12FD-4239-9535-11098E30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F735-B1B2-4216-8620-D87D9EC1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602-1380-4A17-8D17-E82B53C7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0D3-E85D-4876-B8D5-F60A4E3C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C66-D5EB-489A-8294-AE8AF1AE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915-717E-4677-8589-38977EBB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824-543A-4ED8-A30F-C18DD215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80907-D7DD-463B-A9CC-4AEF594C12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