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268013"/>
        <c:axId val="32968265"/>
      </c:barChart>
      <c:catAx>
        <c:axId val="532680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968265"/>
        <c:crosses val="autoZero"/>
        <c:auto val="1"/>
        <c:lblAlgn val="ctr"/>
        <c:lblOffset val="100"/>
        <c:noMultiLvlLbl val="0"/>
      </c:catAx>
      <c:valAx>
        <c:axId val="329682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680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C20E-98EE-439E-8DE3-F18960DEF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A6AF-7D84-45CE-9074-D59A926B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EED6-F079-46F2-B2EA-23AB94518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D7CC-B405-49F9-AFE7-6FC3B5503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0D8D-8E21-4380-97A3-09C80BD2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A5ED-B646-497C-9A8F-AAAA13EF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94CC-47C2-4AD5-9ECE-FDD813AD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D428-5F2C-4D25-AA97-B3618C9E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8DD7-B008-490E-AA4F-E4336F13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BC93-4C46-4FA1-9B21-E3B46F74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8048-112E-4C52-A2A9-6BA38966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89EA-41C8-42FD-95DD-463352CF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020EFF-FCA4-45B7-BC5D-2B3139C63D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