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39616"/>
        <c:axId val="22032779"/>
      </c:barChart>
      <c:catAx>
        <c:axId val="21139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32779"/>
        <c:crosses val="autoZero"/>
        <c:auto val="1"/>
        <c:lblAlgn val="ctr"/>
        <c:lblOffset val="100"/>
        <c:noMultiLvlLbl val="0"/>
      </c:catAx>
      <c:valAx>
        <c:axId val="22032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39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B3E-42CF-46D9-9FEB-819D3ED3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5D4-3E46-4525-A131-6EAEFCE3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9E5-7286-4741-B6DA-F97C3A14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828-E707-48A6-94B3-FEE2EDE2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019-BC50-40EC-B012-5A6FB89C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230-4B43-4B60-A4B0-E93783CB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0CF-D222-4C44-8F91-4BE1C498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8A0-0D1E-4794-8340-1E092DA6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6F0-40FF-4350-8D65-40D70167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79B-BFC8-4DDC-B2C3-B39DEC63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464-CCF8-42D6-B598-AEFA87A3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014-0DC4-478B-8B1C-E1D5BC87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6ACA2-FDDF-418E-A1DE-AFB232B0C8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