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154973"/>
        <c:axId val="1379088"/>
      </c:barChart>
      <c:catAx>
        <c:axId val="661549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79088"/>
        <c:crosses val="autoZero"/>
        <c:auto val="1"/>
        <c:lblAlgn val="ctr"/>
        <c:lblOffset val="100"/>
        <c:noMultiLvlLbl val="0"/>
      </c:catAx>
      <c:valAx>
        <c:axId val="13790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549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1633-F8BA-4B1A-90B3-0882214B0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4F95-003D-4F45-9CB2-096D6537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9159-4FBC-4C37-A4FD-DAB6FC022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D425-80AA-429F-8511-940C80F3D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A527-5C35-48A2-8F7B-8B0D083B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FF1A-4AB5-4551-930C-E92C6C55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0725-4350-4FFC-9260-6DA68CD4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65B5-0F46-49C6-92DC-188BFB9E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1E04-7439-4415-AC37-1D8F46DC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F6EA-EB3C-42D0-9087-2514DD65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7CF3-FA17-41C9-AA23-745E1F52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0C06-145C-46AD-BBEC-A9AB022A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A7CD7-6615-433C-8475-09CC921DF7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