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85824"/>
        <c:axId val="27487872"/>
      </c:barChart>
      <c:catAx>
        <c:axId val="22485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87872"/>
        <c:crosses val="autoZero"/>
        <c:auto val="1"/>
        <c:lblAlgn val="ctr"/>
        <c:lblOffset val="100"/>
        <c:noMultiLvlLbl val="0"/>
      </c:catAx>
      <c:valAx>
        <c:axId val="27487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85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4EA-212E-4958-930B-40055F19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018-9EC0-49B9-86BE-65B582F7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255-DFE5-4CAB-B12A-6FDE5D6C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279-2A5F-4358-9859-5881BAAC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44A-3D76-4B1E-B4E8-A89F7FF3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A2E-7094-428A-BFEB-31330FB8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B55-3AAE-4903-8D2D-793BEC04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341-8306-45AE-8183-1E6ED72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8B6-A9D8-4624-B4B8-39EA7934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C20-087F-4995-8C5B-D98C222D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368-13B2-4CFD-948C-3351DC39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227-A598-40C7-99BA-EBBAC5E4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C1299-CF89-4B44-B7A1-693BA3F6DC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