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5045477"/>
        <c:axId val="26027015"/>
      </c:barChart>
      <c:catAx>
        <c:axId val="2504547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027015"/>
        <c:crosses val="autoZero"/>
        <c:auto val="1"/>
        <c:lblAlgn val="ctr"/>
        <c:lblOffset val="100"/>
        <c:noMultiLvlLbl val="0"/>
      </c:catAx>
      <c:valAx>
        <c:axId val="2602701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04547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1B458-BE93-4952-882E-106E26B0D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F0DD3-E090-43FB-B771-1248A5930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A9827-2A75-47DB-84F2-3D6E2861E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E00B4-065E-491C-A90E-B0AED440F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BA1B0-D6D7-4105-ADC2-5036781BC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EA467-B8BB-4C59-8BA1-26B6380C9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583F1-13DF-4E8C-9542-47246DAC8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C03E7-6B31-47EA-960C-769189460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B3300-89A4-4CBD-8AFD-2FB84C21C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1EC82-34DD-47CB-87C3-899D69492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EB548-5039-4B08-816C-771594317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8AC28-5AE8-4EAA-B8D2-1ADAB767B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BAE3BE-4B53-4ACB-825B-EFCE046BBFC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