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06849"/>
        <c:axId val="38015908"/>
      </c:barChart>
      <c:catAx>
        <c:axId val="80906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15908"/>
        <c:crosses val="autoZero"/>
        <c:auto val="1"/>
        <c:lblAlgn val="ctr"/>
        <c:lblOffset val="100"/>
        <c:noMultiLvlLbl val="0"/>
      </c:catAx>
      <c:valAx>
        <c:axId val="38015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06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D23-ED29-4DAB-9BF0-F7468C62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43F-5D14-49A1-888E-4EC13083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A25-4219-4784-99C5-63D84FCD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D42-8EA8-4060-910A-6688CBD5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552-601D-456F-8573-F85E03F4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955-E673-41F2-9FF6-9885AB3A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07B-6E2B-45A5-AFE1-D517657F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193-14B6-4E71-98E6-6F84DE0F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955-080F-4ADC-A0D6-36013B51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262-B691-4AF9-A636-496CEB63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F63-2EA5-492B-9F42-AE29D3A2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E20-0895-48C8-8F91-DE107C70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AB7DB-207B-4353-9705-53C8C0EE15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