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254600"/>
        <c:axId val="6483724"/>
      </c:barChart>
      <c:catAx>
        <c:axId val="932546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83724"/>
        <c:crosses val="autoZero"/>
        <c:auto val="1"/>
        <c:lblAlgn val="ctr"/>
        <c:lblOffset val="100"/>
        <c:noMultiLvlLbl val="0"/>
      </c:catAx>
      <c:valAx>
        <c:axId val="64837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2546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FDD9-A5F6-41F5-A039-BC82DE8FD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8DD1-AC56-4C6C-9F3E-29D900810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5192-D72B-48A3-9863-37EBA25C8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8F47-4C5E-41E5-9D96-78F2B6897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B006-4248-4BF7-BFE1-7227B45FA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E6D8-7928-48B7-AA09-F61BEF932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F550-2C5D-4A56-8CEA-139916C29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111B-2519-4DA1-8E31-BA7E401F2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79F2-5DF8-4667-A672-1FDF2A06D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EC33-1671-4E36-B180-2645A282C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B8B9-4338-42E1-8871-200C348D6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D051-A22E-4537-825C-35A5085A4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DE2086-7650-4CBE-A0C6-A6D1EDDA92A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