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40061"/>
        <c:axId val="36469373"/>
      </c:barChart>
      <c:catAx>
        <c:axId val="53340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69373"/>
        <c:crosses val="autoZero"/>
        <c:auto val="1"/>
        <c:lblAlgn val="ctr"/>
        <c:lblOffset val="100"/>
        <c:noMultiLvlLbl val="0"/>
      </c:catAx>
      <c:valAx>
        <c:axId val="36469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40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585-7615-4C07-8165-847513F5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9E6-7C29-4C7E-8C62-0986A804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EE1-E792-4416-9B25-4B02A057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6FF-3FD9-4106-914D-CD1C8075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800-E9DB-4C83-82C5-01F21A39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7FB-898F-4FA4-948C-E63F521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4AD-F41A-4D58-9473-BA23CF96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BDD-B88D-478F-97F1-C4FDDED8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2B1-F028-49A6-A7C8-8AF3ACF8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279-29EA-4AF1-9486-9A7ADF52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05C-DA68-4BDF-829D-7BE970F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A52-508D-43C6-8BAD-DC65552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01FB0-CF2E-4D68-B5CE-E01DB23E3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