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14733"/>
        <c:axId val="50861963"/>
      </c:barChart>
      <c:catAx>
        <c:axId val="64014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61963"/>
        <c:crosses val="autoZero"/>
        <c:auto val="1"/>
        <c:lblAlgn val="ctr"/>
        <c:lblOffset val="100"/>
        <c:noMultiLvlLbl val="0"/>
      </c:catAx>
      <c:valAx>
        <c:axId val="50861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14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F64-BAC0-4AFE-A6D0-566C108A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3DE8-4CFC-449E-92C5-F9C7C6CF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4D0D-2A24-45D9-9011-DBF5D0B1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969-D14F-4654-802B-B0A333F8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6EF-75D2-446B-A5E6-17132ED6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B78-FDEF-4D7E-8F21-BE08DD22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836-9AB9-4F76-AA57-E00B4C0D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34F-63D8-4F9D-B038-20A8D4A5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82A-749D-4223-BF8C-F32D9297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EE8-8304-410F-A41A-274B9144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7B7-5540-4C2D-9301-EDDC2521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2C4F-0519-4F13-84BF-281FBA5A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EA9D7-E6CB-4ACA-8D35-6D3611B45C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