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55627"/>
        <c:axId val="16269267"/>
      </c:barChart>
      <c:catAx>
        <c:axId val="6565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9267"/>
        <c:crosses val="autoZero"/>
        <c:auto val="1"/>
        <c:lblAlgn val="ctr"/>
        <c:lblOffset val="100"/>
        <c:noMultiLvlLbl val="0"/>
      </c:catAx>
      <c:valAx>
        <c:axId val="16269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2A4-FFF7-4C18-9E40-BD296ADB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D3C-5E73-48A0-B8EB-FD8E54B5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009-0439-449C-886D-CA20DE68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993-11A9-42DC-B624-742C1962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FB2-A313-4EDC-AEAB-F08E046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59-BC1D-4BC0-A577-5DF9CE2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EF5-0613-4564-BDE9-05F147C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FC8-907E-448A-BAA3-7E0815C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17E-E7E2-446B-BE57-69EDBFF7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4AD-7F5D-4ED2-A63C-B694997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BF0-D8EA-4911-933E-C1EC68DA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AAC-C72E-4030-87EC-82036A2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1895B-231B-4B34-8C8A-A54D6827B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